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2F2-400A-4A38-AAF3-AB555FDC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F1F-09E5-408D-B52C-A55FB7AA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859-70ED-476D-9DB6-ED87C212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1C4-BE8D-4490-91C4-5AD99661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82A4-AE11-4750-9BA0-225C88CB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D23C-0491-46C6-9EF1-EFD726E1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0177-61D8-4D7D-BEA1-910B6601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491B-DF07-44AF-8891-096CF6A5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894C-C14A-4748-98A1-19886527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9BBF-35AF-4FF3-90BA-560CD7C3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506E-4B58-47BA-9F76-323C1E3C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BFC-2F31-44C2-91EB-9EA41E0E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C940-6B17-4C92-9E81-9593558D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41A5-6151-4931-AEDB-E2DFD9F7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514F-BDB5-479D-AC48-DA8CD2BC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4109-B2AA-4D81-91CD-79757A9E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E527-E147-491E-B4D3-21CE35A7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4BF-BC7A-4EA3-AB0F-104332D0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D26-3381-4D5B-AE26-82C85F70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3E4-169E-4C45-98F1-BA4A64FD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548-B3FC-40F7-BB16-22FBD734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B8A-A317-465D-939F-FA12CDF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619-D384-4E80-A816-A068C47C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4DD-C40D-4E48-B262-93487DD5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F649-8320-4F4B-8BB2-48BE0479A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6A80-F0E8-4D8B-B831-726D794F35C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RATIO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ORDER MATTERS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atio is a comparison between two numbers by divi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written in three different way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447920" y="35812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 to 2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8120" y="4343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 : 2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715000" y="5425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7913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867280" y="5318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al Rat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wo ratios name the same number, they are equal.  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like writing an equivalent fra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828800" y="350532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0 : 30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572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 Rat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5029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 : 15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124080" y="501336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 : 3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181480" y="4952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: 120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s in Simplest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s can be written in simplest 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ide both terms in the ratio by their GC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4267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 12 to 8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29718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5909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2:27:04Z</dcterms:created>
  <dc:creator>Josh Hammond</dc:creator>
  <dc:description/>
  <dc:language>en-US</dc:language>
  <cp:lastModifiedBy>lucy.chambers</cp:lastModifiedBy>
  <dcterms:modified xsi:type="dcterms:W3CDTF">2010-12-07T14:23:59Z</dcterms:modified>
  <cp:revision>3</cp:revision>
  <dc:subject/>
  <dc:title>Ratios</dc:title>
</cp:coreProperties>
</file>